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D5D1-FBEF-4CCA-82A7-5A24D6E93BB9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7882-07B1-4167-B51C-CFC8737967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5B33-5D6D-4F91-A91B-29716D82D4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2BFB-6BDE-45AF-B9D3-27E3384ADC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F23E-5603-4CE6-B7CD-68FA764F0F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71DB-3768-4423-A906-DE575830C3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6E24-267B-40CC-9959-9B4D6FEE76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28B3-1324-4709-8DB9-01C41CD7EF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1748-586E-43EE-A31E-B4CEBFDB40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14B8-4EDB-4222-9433-334608343D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A9D4-A9DD-450E-9B26-A4325A3933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1A12-7719-41BC-B80A-2D7A67BA31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2144-AE8C-4B19-AAEA-9C07362B01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2263-0166-4F39-A8E5-E779C7E1EE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3050-D4D5-4BA6-81F4-EB73C1CB67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A799-45D2-4647-97A5-D4FAEC4362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4315-DC3B-43B2-B334-A12EE580F5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25DA-DE36-4046-8CF4-EA2EA0BAED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2E78-57D1-4235-9D82-56F188E192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E8F1-5B6A-4333-ABB6-5ABAAA436D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E39B-46E2-4780-84FF-B415112F41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8963-291D-4AED-A5A5-4BCAB93E62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02CA-ED6A-41D3-A3F2-E4D3CACBB4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A28E-C4E6-4622-A982-B071200EBF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DAE0-3AC7-43A1-95E5-6AD083A0B7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B23C-C492-489F-8495-C74F273CC1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A0A3-1771-4219-A105-B02BDE1671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4275-90A5-42AD-AF65-E7861D8554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E7FC-38E2-440C-9B01-308DC9C710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3A2E-3F79-4E51-91AF-7F8EDD7B1F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0A52-2C2A-4D5B-9751-116BBC915D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E877-9828-4273-9F32-55204327A2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F8F4-E89B-4A10-AE3A-20A53C65D3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4731-7AFF-43C7-B2B6-057E3E0E91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7613-255A-4686-9D9A-49377257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0031-34D1-4C73-98CD-7154BAC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86A9-E00E-4841-96E7-2ADB910AFD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E7B3-355B-4FBC-B826-936A6E09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C5008-5481-458C-9EC9-EBCE1B8DF3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FA118-DE6A-4486-BFE2-81FF47E8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D586B-D6BA-40D8-957E-822C2E6C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F392B-BEC9-46AC-AB6D-4FFBC3C2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06BD4-65FE-41AE-8042-124D1AE1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4217-3233-4AB8-BCE9-210882A8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B9E3A-2577-4D91-A307-819230D1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4B46D-6656-4533-94B7-4A0471AB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91B40-F54F-4302-966E-2773BBA2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12F60-CE85-4331-91BC-1F9E2699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126B8-4B66-47FC-8840-BA3875E7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7DDEA-73CC-4F09-B258-CF0BF873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67E30-B7AB-4F2C-BF4E-0B55361809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E4F9-D583-4E91-9203-92E75BC63D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0720-B468-46D5-9141-16A08E21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DF36-EE79-495E-87FE-500D9277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9ED8-EA74-49C5-80F1-88E748D3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535D-CCE1-44C1-8C23-DE252056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8610-437C-4BCA-99E0-8D1E4091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4187-F5BA-4FAC-B854-D7288F19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911C-E9C2-4A0F-9C71-43ECFBDA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3D3D-0698-471D-B758-89E56C68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6D5F-BE62-4B4B-8DA5-891428A8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D02E-D2B2-42BB-897A-CB677BC9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B48B-D280-4677-B190-CE742A70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384F-7D38-4EFD-A7C6-DBF6E35DBD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2C0A7-151B-4F06-B36C-F10D20E184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6B9C-E070-44D8-BB56-11546358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0208E-74F2-44C7-AA27-4B60BEE3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FA659-C25D-4812-922B-BFEDE855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C12E9-2EBE-4D8D-AFB4-AC79B42F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BBC8C-BB6C-4B46-8B82-1F77EED0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AA6A5-2E62-4824-9958-C13887A1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27254-5419-4239-BD97-70FD09E9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43CCA-C353-4802-B484-97295CE0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16FEC-24DF-445E-AE91-3C474FCD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D8956-06F0-486E-ABF9-282FFE35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C3104-5AE3-4451-A326-EBDC9CA7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3046-B460-41FE-AA87-D9851A2C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EB601-69B3-4163-8716-1A26B139F4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51D3F-18CC-400C-87E0-901531B8F2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03F98-CD28-476E-9636-BB9C0AF3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B94BD-D76E-4FC1-90F2-8E44D307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ABE09-74F1-4F5A-9D0B-23D0047F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02935-7207-4AB4-AE35-5A537DFC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C4F33E-A5BB-4521-B41F-DD62CEC5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1D3BB-379E-47B7-A028-7488D471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EEA1F4-17E6-4AF9-A610-F6A9136F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F0D01-1F1D-45B7-A7A3-5903FD84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3982-A6CD-41F2-97B7-77D7B000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E0EBAC-2869-449F-A04B-991ADFAF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0D573-28FA-431F-8CCE-DB77B05C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96E17-C1B9-444D-8B28-2289C4E7A6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16E05-A34C-4AB8-8255-1F746FAAF9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B8EB0-B2A5-4E8E-8482-041987F0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5FA8-ECBB-4093-955C-18A30A6D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7CC37-E2F0-403D-9903-70FF4862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4613-605F-4D83-89B8-760C3729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881B4-6DD6-4F24-BE2A-3B3635CF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2C65-4FA1-4642-99B4-480C536C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8C38-8D9F-4621-ADD7-42DCFE1F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A22BF-E907-45B2-B3FE-6E833102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3C3D-569C-4EDC-AE2C-AF467148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C817-201F-458F-8FD6-762F2697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FA7FA-DF9C-4F13-9DDA-AEEE876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0A6D-2CD0-410C-A053-2A575F58EA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C831-C2D6-4814-8C19-4DA8CE00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C09B-DE88-4926-B856-32A9D3C246B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2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4ACE-B36A-4DB0-9594-715475CF88F1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9"/>
          <p:cNvSpPr/>
          <p:nvPr/>
        </p:nvSpPr>
        <p:spPr>
          <a:xfrm>
            <a:off x="0" y="0"/>
            <a:ext cx="914076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0" y="5165640"/>
            <a:ext cx="914076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1752480" y="132732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Line 16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Line 17"/>
          <p:cNvSpPr/>
          <p:nvPr/>
        </p:nvSpPr>
        <p:spPr>
          <a:xfrm flipV="1">
            <a:off x="160020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6781680" y="624852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db7fd"/>
                </a:solidFill>
                <a:latin typeface="Arial"/>
              </a:rPr>
              <a:t>© 2010 TTCRM Corporation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2" name="Picture 23" descr="TEXTUR~21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347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4"/>
          <p:cNvSpPr/>
          <p:nvPr/>
        </p:nvSpPr>
        <p:spPr>
          <a:xfrm>
            <a:off x="0" y="518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db7fd"/>
                </a:solidFill>
                <a:latin typeface="宋体"/>
              </a:rPr>
              <a:t>终端通（北京）有限公司 </a:t>
            </a:r>
            <a:r>
              <a:rPr b="0" lang="en-US" sz="1600" spc="-1" strike="noStrike">
                <a:solidFill>
                  <a:srgbClr val="adb7fd"/>
                </a:solidFill>
                <a:latin typeface="宋体"/>
              </a:rPr>
              <a:t>400-8610-878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4724280" y="6248520"/>
            <a:ext cx="16192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adb7f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4C55-3077-4D01-B40A-1195C22BB87D}" type="datetime">
              <a:rPr b="0" lang="zh-CN" sz="1300" spc="-1" strike="noStrike">
                <a:solidFill>
                  <a:srgbClr val="adb7fd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13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0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ldNum" idx="4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30FB-A9E6-4FA4-B748-C06CEAFE863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5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F447-C2C2-41A6-84C6-C1482B4945EE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ldNum" idx="6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B09A-1C28-4511-8894-ED043CB4E1F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6C1D-E509-47CE-A5ED-B96AF24E3984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2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8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125C-A5E5-401D-A321-247248B1B20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9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2C28-4789-4C34-A6CD-49F2B1F8C885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38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sldNum" idx="10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7AE3-5658-4508-A3E0-C859279AB79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1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FF1B-255A-48C9-81F0-F021886776B8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4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TTCRM Corporation</a:t>
            </a: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3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84" name="Picture 32" descr="zdt_biao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ldNum" idx="12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F96E-649E-484E-B4BF-58AB835EE8F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3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8AFF-01DB-4DEB-9593-A659AFD6CCDE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5"/>
          <p:cNvSpPr/>
          <p:nvPr/>
        </p:nvSpPr>
        <p:spPr>
          <a:xfrm>
            <a:off x="4724280" y="6248520"/>
            <a:ext cx="1619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B674-957E-40D1-AB1A-9EBC49351FEF}" type="datetime">
              <a:rPr b="0" lang="zh-CN" sz="1300" spc="-1" strike="noStrike">
                <a:solidFill>
                  <a:srgbClr val="adb7fd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0" y="4403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定位管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pp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0" y="6461280"/>
            <a:ext cx="41148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版权所有，侵权必究！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34" name="图片 1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52440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4458-D371-41D0-BBF2-899D1DC857B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31CA-19DC-4831-AD2E-726AD964FE7D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54160" y="2438280"/>
            <a:ext cx="861048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及版简介</a:t>
            </a:r>
            <a:endParaRPr b="0" lang="en-US" sz="6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矩形 1"/>
          <p:cNvSpPr/>
          <p:nvPr/>
        </p:nvSpPr>
        <p:spPr>
          <a:xfrm>
            <a:off x="457200" y="4038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普及版包含定位版全部功能，在定位版的基础上，增加了日报管理、审批管理两个部分。如果除了定位考勤，还需要员工用手机提交工作日报、填写审批单，就选择普及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33A7-873E-4869-B3DE-69D0F083139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531D-8E27-441A-B2D6-75BAB87B7528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普及版增加功能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1" name="矩形 1"/>
          <p:cNvSpPr/>
          <p:nvPr/>
        </p:nvSpPr>
        <p:spPr>
          <a:xfrm>
            <a:off x="380880" y="2185920"/>
            <a:ext cx="8382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工作日报：自定义日报格式、员工手机填写，经理用手机或电脑审批，以及相关的统计等功能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审批管理：将当前实行的审批单导入系统（如费用审批单、出差审批单等），员工用手机填写，经理用手机或电脑审批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E076-A2C7-47F5-B2BE-F02CF3622C0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0117-410C-476C-BE4E-FD5C549F7FA9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254160" y="2438280"/>
            <a:ext cx="861048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版简介</a:t>
            </a:r>
            <a:endParaRPr b="0" lang="en-US" sz="6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5" name="矩形 1"/>
          <p:cNvSpPr/>
          <p:nvPr/>
        </p:nvSpPr>
        <p:spPr>
          <a:xfrm>
            <a:off x="457200" y="4038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版包含普及版全部功能，在普及版的基础上，增加了网点（客户）管理、线路管理、拜访管理、现场工作记录表、手机订单、客户进销存、巡检、工单管理等功能。如果您有相对稳定的网点（客户）需要员工重复拜访，拍照、记录现场信息，就选择专业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4BA8-50C9-478F-9692-1C906F2FB94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CCA6-3026-4B43-A401-EE43CF5E357D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317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将网点（客户）定位在地图上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9" name="矩形 1"/>
          <p:cNvSpPr/>
          <p:nvPr/>
        </p:nvSpPr>
        <p:spPr>
          <a:xfrm>
            <a:off x="22860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上图，将网点定位在地图上之后，每个网点的位置，就确定了。据此可规划员工线路，“控制”员工真正到达这些网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90" name="图片 6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762800" cy="238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B721-86F9-4A25-87A4-5B1C0C03E49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D544-1341-48C2-9C6E-CB4EFA9AB6AC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317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确保员工真正到达现场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4" name="矩形 1"/>
          <p:cNvSpPr/>
          <p:nvPr/>
        </p:nvSpPr>
        <p:spPr>
          <a:xfrm>
            <a:off x="152280" y="2057400"/>
            <a:ext cx="8763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员工真正到达某个网点时，系统才允许他填写该网点的“现场工作记录表”，尚未到达、或已经离开，都无法填写，确保所提交的文字、数据、照片是真实可靠的。也只有正确填写了现场工作记录表，系统才认为他真正“拜访”了这个网点，否则，将记入漏访，无业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定位版不同：定位版中，是否按时到达，只能由经理通过轨迹人工判断。在专业版中，则由系统自动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5CB0-32F0-4ACF-A08A-35660829654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6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B530-1D1A-4F32-8E7A-94A26858389E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17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网点（客户）类别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矩形 1"/>
          <p:cNvSpPr/>
          <p:nvPr/>
        </p:nvSpPr>
        <p:spPr>
          <a:xfrm>
            <a:off x="228600" y="2590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网点可以分多种类别（上图中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，表示的就是不同类别的网点），一个类别可以定义一套“现场工作记录表”（工作步骤），对网点的分类，以及现场工作记录表的增加、删除和变更，由企业指定的系统管理员操作，员工只能按设定的流程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B28A-B362-4D5C-9C5A-7C933F582A7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859B-2811-4F98-BF41-9F508966439B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17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规范现场工作流程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矩形 1"/>
          <p:cNvSpPr/>
          <p:nvPr/>
        </p:nvSpPr>
        <p:spPr>
          <a:xfrm>
            <a:off x="228600" y="2286000"/>
            <a:ext cx="8763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场工作记录表”规定了员工到达现场后的工作步骤、内容、结果，每完成一个步骤，就填写一个结果、拍摄一张照片，从而规范每个员工的工作流程，尽可能减少员工的随意性，确保工作结果达标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场工作记录表”记录员工在每个点完成每个步骤的时间和结果，通过照片判断完成质量，通过时间判断工作效率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AFD3-4B30-49FC-817D-0C6BD365EB4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F714-0E84-4F79-B1CA-71F280AECACF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总体流程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52280" y="4876920"/>
            <a:ext cx="3581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先计划线路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</a:rPr>
              <a:t>限定员工在一个或多个位置完成工作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07" name="Picture 6" descr="XXXX"/>
          <p:cNvPicPr/>
          <p:nvPr/>
        </p:nvPicPr>
        <p:blipFill>
          <a:blip r:embed="rId1"/>
          <a:stretch/>
        </p:blipFill>
        <p:spPr>
          <a:xfrm>
            <a:off x="304920" y="1298520"/>
            <a:ext cx="8426160" cy="318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8" name="Oval 13"/>
          <p:cNvSpPr/>
          <p:nvPr/>
        </p:nvSpPr>
        <p:spPr>
          <a:xfrm>
            <a:off x="4213080" y="1138320"/>
            <a:ext cx="83844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09" name="Picture 7" descr="业务员图片"/>
          <p:cNvPicPr/>
          <p:nvPr/>
        </p:nvPicPr>
        <p:blipFill>
          <a:blip r:embed="rId2"/>
          <a:stretch/>
        </p:blipFill>
        <p:spPr>
          <a:xfrm>
            <a:off x="784080" y="1290600"/>
            <a:ext cx="476280" cy="60012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8"/>
          <p:cNvSpPr/>
          <p:nvPr/>
        </p:nvSpPr>
        <p:spPr>
          <a:xfrm>
            <a:off x="320760" y="1900080"/>
            <a:ext cx="168588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上班签到，启动定位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3976560" y="182412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完成工作，记录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692240" y="4262400"/>
            <a:ext cx="103284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下班签到，解除定位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Oval 15"/>
          <p:cNvSpPr/>
          <p:nvPr/>
        </p:nvSpPr>
        <p:spPr>
          <a:xfrm>
            <a:off x="7642080" y="3500280"/>
            <a:ext cx="83844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4" name="Oval 14"/>
          <p:cNvSpPr/>
          <p:nvPr/>
        </p:nvSpPr>
        <p:spPr>
          <a:xfrm>
            <a:off x="4594320" y="2357280"/>
            <a:ext cx="83808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6618240" y="144792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明确到位后的工作内容、步骤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4357440" y="298764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完成工作，记录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749880" y="5943600"/>
            <a:ext cx="2230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手机上形成工作流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8" name="Rectangle 17"/>
          <p:cNvSpPr/>
          <p:nvPr/>
        </p:nvSpPr>
        <p:spPr>
          <a:xfrm>
            <a:off x="152280" y="5410080"/>
            <a:ext cx="4267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定网点工作内容、步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</a:rPr>
              <a:t>明确到位后工作内容、步骤、流程、要求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5377680" y="5410080"/>
            <a:ext cx="2462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经理远程监督与检查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</a:rPr>
              <a:t>经理用手机或电脑审批记录，逐条打分，量化员工绩效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5293800" y="5943600"/>
            <a:ext cx="2596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奖惩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得分核算绩效工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1" name="Rectangle 21"/>
          <p:cNvSpPr/>
          <p:nvPr/>
        </p:nvSpPr>
        <p:spPr>
          <a:xfrm>
            <a:off x="4575240" y="4876920"/>
            <a:ext cx="4568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辗转各点完成工作，记录结果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</a:rPr>
              <a:t>记录定位轨迹，完成每步工作，逐个填写现场工作记录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Text Box 22"/>
          <p:cNvSpPr/>
          <p:nvPr/>
        </p:nvSpPr>
        <p:spPr>
          <a:xfrm>
            <a:off x="7326360" y="419112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完成工作，记录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644400" y="3835440"/>
            <a:ext cx="1717560" cy="621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布置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完成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检查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奖惩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环环相扣，无人能偷懒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1825200" y="3881520"/>
            <a:ext cx="235800" cy="4989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播放动画、理解原理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evt="end">
                                        <p:tn val="12"/>
                                      </p:cond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0.23038 0.0831 L 0.55121 0.13148 L 0.67066 0.20741 L 0.71927 0.31296 L 0.74705 0.35741 E">
                                      <p:cBhvr>
                                        <p:cTn id="60" dur="5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705 0.3574 L 0.7026 0.31481 L 0.62899 0.19814 L 0.55538 0.14073 L 0.41371 -0.01482 E">
                                      <p:cBhvr>
                                        <p:cTn id="68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372 -0.01482 L 0.39288 0.05 L 0.44149 0.14074 L 0.42344 0.18333 E">
                                      <p:cBhvr>
                                        <p:cTn id="7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344 0.18333 L 0.47066 0.3537 L 0.4526 0.38519 E">
                                      <p:cBhvr>
                                        <p:cTn id="86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BD06-F836-41CA-A992-30DA77A526E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6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64F7-2CC7-45BB-A5C6-4E87294BC1D1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行踪与工作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28" name="Picture 6" descr="zzb_n4"/>
          <p:cNvPicPr/>
          <p:nvPr/>
        </p:nvPicPr>
        <p:blipFill>
          <a:blip r:embed="rId1"/>
          <a:stretch/>
        </p:blipFill>
        <p:spPr>
          <a:xfrm>
            <a:off x="2717640" y="1295280"/>
            <a:ext cx="3733920" cy="2951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9" name="矩形 1"/>
          <p:cNvSpPr/>
          <p:nvPr/>
        </p:nvSpPr>
        <p:spPr>
          <a:xfrm>
            <a:off x="152280" y="4648320"/>
            <a:ext cx="8763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一条轨迹，真实记录员工上班期间的活动路径，以及到达每个工作点的时间。如上图，该员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: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到达华研尚街店，并在此填写了工作记录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6:2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到达学府店，在此工作并填写了现场记录。经理一眼便知该员工是否有脱岗，该去的位置（网点），是否都去过了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轨迹记录了员工到达每个网点的时间，现场记录则展示在这个点完成的工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E5AF-0260-40DE-BD33-943413E25A9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DBC2-176D-491B-B2F0-EC7C2FF7D1F5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检查、审批现场记录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3" name="矩形 1"/>
          <p:cNvSpPr/>
          <p:nvPr/>
        </p:nvSpPr>
        <p:spPr>
          <a:xfrm>
            <a:off x="152280" y="48960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上图，该员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:3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崂山店工作，点击图标，即可查看具体的现场记录。同样，点击“大润发邳州”可以看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1:5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员工在这里完成了哪些工作。据此，掌握现场真实情况，判断现场工作是否达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34" name="图片 1" descr=""/>
          <p:cNvPicPr/>
          <p:nvPr/>
        </p:nvPicPr>
        <p:blipFill>
          <a:blip r:embed="rId1"/>
          <a:stretch/>
        </p:blipFill>
        <p:spPr>
          <a:xfrm>
            <a:off x="1866960" y="1638360"/>
            <a:ext cx="5334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DF02-727B-4F77-A5C0-E00AD19D00D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D20F-B61C-49E8-9A76-5C9A001AF401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终端通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—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业务掌中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04920" y="5486400"/>
            <a:ext cx="86104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是一套定位管理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p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必须安装在每个员工的手机上），有定位版、普及版、专业版三个版本，不同版本功能不同，价格也不一样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39" name="Picture 8" descr="http://www.zdt6.cn/img/zzb_n1.jpg"/>
          <p:cNvPicPr/>
          <p:nvPr/>
        </p:nvPicPr>
        <p:blipFill>
          <a:blip r:embed="rId1"/>
          <a:stretch/>
        </p:blipFill>
        <p:spPr>
          <a:xfrm>
            <a:off x="2809800" y="1646280"/>
            <a:ext cx="5953320" cy="3190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0" name="矩形 1"/>
          <p:cNvSpPr/>
          <p:nvPr/>
        </p:nvSpPr>
        <p:spPr>
          <a:xfrm>
            <a:off x="76320" y="2133720"/>
            <a:ext cx="273348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位管理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400"/>
            </a:br>
            <a:br>
              <a:rPr sz="14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移动、联通、电信全覆盖；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g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3g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4g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都可以；全国无死角。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2218-E48F-40A6-91D0-096172E7650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6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12CA-5837-493F-92E7-F7E9D907D681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绩效管理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8" name="矩形 1"/>
          <p:cNvSpPr/>
          <p:nvPr/>
        </p:nvSpPr>
        <p:spPr>
          <a:xfrm>
            <a:off x="152280" y="1752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晚上，经理拿出手机，检查员工一天都去了哪里，在每个网点的工作都做得怎么样。这个网点去了就有分，那个网点没去，就没有分。这个步骤做得好，就多给点分，那个步骤做得不好就少给点分。让员工次日就能查到自己前一日的绩效分和所得奖金，明白哪些工作做得好，哪些工作还需要改进。显然，要不了几天，员工就会明白：我跑的点越多，得分越多，每个点的工作干得越好，得分就会越多。得分越多，则奖金越高。真正实现：多劳多得，少劳少得，不劳不得。引导员工向企业希望的方向努力。系统自动按月汇总每个员工的绩效分和绩效奖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30BF-AA6D-416A-8477-1A11560B6EE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EAE0-E104-4E84-A3AA-8A24A5A4710F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网点（客户）分布图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28600" y="1558800"/>
            <a:ext cx="85345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只需几秒，即可自动绘制出您的网点分布情况图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43" name="Picture 9" descr="zzb_kh_map"/>
          <p:cNvPicPr/>
          <p:nvPr/>
        </p:nvPicPr>
        <p:blipFill>
          <a:blip r:embed="rId1"/>
          <a:stretch/>
        </p:blipFill>
        <p:spPr>
          <a:xfrm>
            <a:off x="922320" y="2463840"/>
            <a:ext cx="7147080" cy="325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241D-3396-446F-A37E-3CF117246B5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5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4F33-08C6-4B3C-BEC1-230BD5984023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其他功能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7" name="矩形 1"/>
          <p:cNvSpPr/>
          <p:nvPr/>
        </p:nvSpPr>
        <p:spPr>
          <a:xfrm>
            <a:off x="152280" y="2468520"/>
            <a:ext cx="8763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版的功能很多，且针对不同行业，可以订制适合自己的功能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比如快销行业，可以选择手机订单管理、手机进销存管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比如燃气检修，可以选择手机巡检等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251B-BC13-4287-8F9E-FE5B01AAC16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2C7F-B1C1-46E9-9900-65FF9A92EC03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54160" y="2438280"/>
            <a:ext cx="861048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说明</a:t>
            </a:r>
            <a:endParaRPr b="0" lang="en-US" sz="6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6C55-AD5A-488F-A532-7366EEDF12E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D1E1-6954-4158-A382-BE3A09833E1C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定位误差、流量、耗电情况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4" name="矩形 1"/>
          <p:cNvSpPr/>
          <p:nvPr/>
        </p:nvSpPr>
        <p:spPr>
          <a:xfrm>
            <a:off x="152280" y="1868400"/>
            <a:ext cx="87631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系统，采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移动信号三种方式定位，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信号，则使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位，否则检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否有信号，当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都不能定位时，才使用移动基站定位。自动优先使用精度较高的定位方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位误差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米内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米内，移动信号定位大多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米内，有些会超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米，偏远地区基站稀少，这时误差可能超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里。请员工打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这时，只要靠近村子，村中有人使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就能通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wif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位每日耗流量不超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照片每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0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左右。通常，定位版每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0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普及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0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专业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00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就足够了。流量取决于您的业务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不开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情况下，耗电并不明显，但还是要配充电宝，以防万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偏远地区，手机若无信号，请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g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这时，系统会将定位记录暂存手机中，待信号恢复，即可自动上传至服务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E6C9-E5E0-4FDE-B776-8344B2BAA16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2775-D9F1-4B64-BE10-BCC46451692E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实施流程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8" name="矩形 1"/>
          <p:cNvSpPr/>
          <p:nvPr/>
        </p:nvSpPr>
        <p:spPr>
          <a:xfrm>
            <a:off x="152280" y="1371600"/>
            <a:ext cx="87631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册企业帐户（官网菜单中，点击“注册”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登录企业账号（官网菜单中，点击“用户登录”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按“新手操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步骤”进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全过程两周完成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浏览官网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htttp://www.zdt6.cn/zzb.js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产品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了解各版本的介绍；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价格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价格表及其购买流程；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注册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点击这里，开始注册试用，试用数据，购买时直接转正，不会丢失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下载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下载手机软件，管理制度模版等内容；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用户登录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管理人员登录后台系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59" name="图片 1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716436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75EC-C5EA-4628-8521-80FBCA75CDE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8268-97A7-47BE-84FC-C2B69F30C01E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免费试用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7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日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63" name="矩形 1"/>
          <p:cNvSpPr/>
          <p:nvPr/>
        </p:nvSpPr>
        <p:spPr>
          <a:xfrm>
            <a:off x="152280" y="2330280"/>
            <a:ext cx="8763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从注册之日算起，免费试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试用期分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阶段，第一阶段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天，结束后登录会提示激活第阶段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试用期间，可随时切换不同版本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试用满意，按“价格”页面的流程完成购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CE19-21B8-4BD5-9659-75F74EE4F4F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5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5C14-C389-4BFD-8D8A-FF51796E711A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手机要求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67" name="矩形 1"/>
          <p:cNvSpPr/>
          <p:nvPr/>
        </p:nvSpPr>
        <p:spPr>
          <a:xfrm>
            <a:off x="152280" y="1828800"/>
            <a:ext cx="87631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施本项目，只要每个员工有智能手机就行，手机要求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苹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上，安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注意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定位轨迹比较重视的客户请注意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苹果手机设置简单。但安卓手机设置较为复杂。安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前的手机，几乎不需要多少设置，但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，有些手机厂家为了速度和电池，不断修改限制，导致有些型号设置较难。若个别员工设置有难度，可加客服微信，直接联系，由客服指导完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B454-515A-4544-87AB-5594BED2395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9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7EFE-4569-48E1-9545-2458B013072F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价格表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71" name="Picture 17" descr=""/>
          <p:cNvPicPr/>
          <p:nvPr/>
        </p:nvPicPr>
        <p:blipFill>
          <a:blip r:embed="rId1"/>
          <a:stretch/>
        </p:blipFill>
        <p:spPr>
          <a:xfrm>
            <a:off x="19080" y="1828800"/>
            <a:ext cx="91155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4E63-3D67-429C-B937-9750CF7589D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0CC7-8470-4324-A17B-25DC84067162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计费说明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5" name="矩形 1"/>
          <p:cNvSpPr/>
          <p:nvPr/>
        </p:nvSpPr>
        <p:spPr>
          <a:xfrm>
            <a:off x="152280" y="1143000"/>
            <a:ext cx="876312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本系统免费试用，通过试用确定您要使用的最终版本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正式服务由客户自行充值，首次充值不低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6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元，以后续费充值每次不低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元人民币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充值款不设期限，用完为止。本月使用，下月扣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余额消费完毕，客户不再续费的，视为客户解除合同，只要在月底前通知终端通停止系统，补交当前已产生费用（如有），即可终止服务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系统自动计费。每月初按上月实际最大账号数扣除余额，根据人数，价格落在哪个区间就按哪个区间计算上月服务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服务价格由系统根据您企业的情况自动确定，任何人为承诺（包括终端通、以及终端通经销商的销售、客服等人员）请勿相信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可随时增加员工，每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0:00-15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4: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新增人员，当月全价计费；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0: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以后增加的人员，当月半价计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可随时删除员工，每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4: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之前删除的账户，当月不计费；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时之后新增的账户，当月免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增加当日就删除的人员，不计费，一旦隔日，则系统自动计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删除一个人，同时增加一个人，账号相同时，系统按一个人计费，账号不同时，系统会按两个人计费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每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后出当月账单，请系统管理员在“系统管理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账单”功能中查看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后到下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日前可对账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如更换版本，请系统管理员随时在“系统管理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申请变更版本”功能中申请，变更下月起生效，费用也从下月开始按新版本计算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余额不足时自动停止服务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8555-252E-4265-A660-DC4B5D8AF0D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2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2C6F-7041-4F29-935F-7615E945FA7F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878920" y="1524240"/>
            <a:ext cx="1839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22222"/>
                </a:solidFill>
                <a:latin typeface="Times New Roman"/>
              </a:rPr>
              <a:t>三个版本，适合不同的客户需求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533520" y="5334120"/>
            <a:ext cx="80769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上图，蓝实线框内，是定位版的主要功能；红虚线框内，是普及版的主要功能；专业版则包含了所有功能。您注册试用账户后，可随时切换版本，试用不同的版本功能，以便评估哪个版本最适合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76320" y="304920"/>
            <a:ext cx="8762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哪个版本适合您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46" name="Picture 14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435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0A5E-12B6-4CD1-945E-C4157E2AE03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7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DF0-A975-4915-9C29-65D4BC70C22B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计费举例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9" name="矩形 1"/>
          <p:cNvSpPr/>
          <p:nvPr/>
        </p:nvSpPr>
        <p:spPr>
          <a:xfrm>
            <a:off x="152280" y="1698480"/>
            <a:ext cx="87631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某企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购买定位版，当月使用人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初，自动计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费用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 x 1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以内，每人每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18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，从余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6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中扣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8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后，余额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4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份新增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，实际人数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（本系统人员可随时增减），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初扣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费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 x 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1-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，每人每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6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后，余额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78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前删除了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人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份实际人数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，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初扣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费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 x 18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以内，每人每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5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后，余额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2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份系统管理员使用“系统管理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申请变更版本”功能升级为专业版，则从变更生效的当月起，也按专业版价格计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此继续，直到余额不足以扣除当月费用，系统自动提醒充值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262A-56A5-449A-8510-96CD9621B29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1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8E1E-3162-4B9D-8C2D-2A36DE3128DE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后续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3" name="矩形 1"/>
          <p:cNvSpPr/>
          <p:nvPr/>
        </p:nvSpPr>
        <p:spPr>
          <a:xfrm>
            <a:off x="15228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更详细的资料，请浏览网站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109db"/>
                </a:solidFill>
                <a:uFillTx/>
                <a:latin typeface="宋体"/>
              </a:rPr>
              <a:t>www.ttcrm.com/zzb.jsp </a:t>
            </a:r>
            <a:r>
              <a:rPr b="0" lang="en-US" sz="2000" spc="-1" strike="noStrike">
                <a:solidFill>
                  <a:srgbClr val="3109db"/>
                </a:solidFill>
                <a:latin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109db"/>
                </a:solidFill>
                <a:uFillTx/>
                <a:latin typeface="宋体"/>
              </a:rPr>
              <a:t>www.zdt6.cn/zzb.jsp</a:t>
            </a:r>
            <a:r>
              <a:rPr b="0" lang="en-US" sz="2000" spc="-1" strike="noStrike">
                <a:solidFill>
                  <a:srgbClr val="3109db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若有疑问请联系我们。我们将竭诚为你提供服务！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全国统一客服执线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0-8610-878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手机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8519233987   13501258998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客服微信号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13518046122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客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QQ:3023342183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信公众号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zdt7777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5"/>
          <p:cNvSpPr/>
          <p:nvPr/>
        </p:nvSpPr>
        <p:spPr>
          <a:xfrm>
            <a:off x="4724280" y="6248520"/>
            <a:ext cx="1619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2A1D-CE1E-4A65-A51A-EE3BAAE22D75}" type="datetime">
              <a:rPr b="0" lang="zh-CN" sz="1300" spc="-1" strike="noStrike">
                <a:solidFill>
                  <a:srgbClr val="adb7fd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0" y="167652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有沟通就有可能！欢迎来电！</a:t>
            </a:r>
            <a:br>
              <a:rPr sz="2800"/>
            </a:b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终端通（北京）科技有限公司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95CA-4494-4C66-9A62-9D4F3C9E7BB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E0D9-545F-4BDB-ACF4-076A7AEFA8DE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4160" y="2438280"/>
            <a:ext cx="861048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位版简介</a:t>
            </a:r>
            <a:endParaRPr b="0" lang="en-US" sz="6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矩形 1"/>
          <p:cNvSpPr/>
          <p:nvPr/>
        </p:nvSpPr>
        <p:spPr>
          <a:xfrm>
            <a:off x="457200" y="403848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位版集成了手机定位考勤相关的三十多个功能。如果你只想对员工定位考勤，那选择这个版本就够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系统会记录员工上班期间，都去了哪里，以及做了什么。员工的定位轨迹，有如下两种形式，可根据自己企业的情况选择其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07BD-1653-4EFA-BCF3-02302D0B848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1D1D-D75A-442A-831C-9C68357B982F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）自动定位形成轨迹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384800"/>
          </a:xfrm>
          <a:prstGeom prst="rect">
            <a:avLst/>
          </a:prstGeom>
          <a:ln w="0">
            <a:noFill/>
          </a:ln>
        </p:spPr>
      </p:pic>
      <p:sp>
        <p:nvSpPr>
          <p:cNvPr id="355" name="矩形 1"/>
          <p:cNvSpPr/>
          <p:nvPr/>
        </p:nvSpPr>
        <p:spPr>
          <a:xfrm>
            <a:off x="228600" y="5181480"/>
            <a:ext cx="880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图，上班打卡（手动）启动定位，之后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分钟定位一次（自动），直到下班打卡才停止。不上班就不会定位，不下班则一直定位。主动权在员工，不按时打卡的，依据迟到、早退、旷工等规章制度处理即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缺点：手机必须设置（只做一次），个别员工有难度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2F96-DB01-4867-A22C-A3A056E5438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7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F908-6147-412D-A0DC-1893CDC8CAE2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）手工打卡形成定位轨迹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9" name="矩形 1"/>
          <p:cNvSpPr/>
          <p:nvPr/>
        </p:nvSpPr>
        <p:spPr>
          <a:xfrm>
            <a:off x="152280" y="1219320"/>
            <a:ext cx="880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员工每到一处，手工打卡一次（每次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秒钟），系统记录当前所在位置和时间，不限打卡次数，适合任何节奏的外勤工作。 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图，该员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9:3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打“到达”卡，记录到达中工大厦的时间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9:5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打“离开”卡，记录离开这里的时间，在此停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；之后再行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，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: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到达增光佳苑，停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后离开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:3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到建材大厦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1:2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离开建材大厦。经理根据这个轨迹判断员工当日工作是否正常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60" name="Picture 10" descr="dakagj"/>
          <p:cNvPicPr/>
          <p:nvPr/>
        </p:nvPicPr>
        <p:blipFill>
          <a:blip r:embed="rId1"/>
          <a:stretch/>
        </p:blipFill>
        <p:spPr>
          <a:xfrm>
            <a:off x="1600200" y="3408480"/>
            <a:ext cx="6095880" cy="19904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1"/>
          <p:cNvSpPr/>
          <p:nvPr/>
        </p:nvSpPr>
        <p:spPr>
          <a:xfrm>
            <a:off x="304920" y="5715360"/>
            <a:ext cx="86868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优点：员工无须设置手机，操作基本没难度。虽然，手工打卡也需要员工配合，但它排除了设置手机所带来的困扰，问题大大减少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A3E-4BF6-4435-8153-07142BBC7AC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3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A005-4DD3-4573-8AC9-646E33E81A9A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特点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5" name="矩形 1"/>
          <p:cNvSpPr/>
          <p:nvPr/>
        </p:nvSpPr>
        <p:spPr>
          <a:xfrm>
            <a:off x="380880" y="1924200"/>
            <a:ext cx="8382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简单：只要会用微信，使用本软件就不会有困难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防止作弊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杜绝虚假定位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照片只能现场拍摄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绑定账号与手机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查岗（确保是员工本人带着手机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他功能：手机请假、发送通知、待办消息、限时任务、考勤统计表、公里数统计、上班时长统计、定位点数统计、员工绩效统计等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3AFE-696B-4D3E-BB31-7CF92EC1126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8201-7008-40EF-B927-C264F473CBA9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选择适合您企业的轨迹方式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9" name="矩形 1"/>
          <p:cNvSpPr/>
          <p:nvPr/>
        </p:nvSpPr>
        <p:spPr>
          <a:xfrm>
            <a:off x="304920" y="1981080"/>
            <a:ext cx="838188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轨迹记录了员工一天的行动路径，据此，判定员工是否按时上班、按时下班、按时到达每个目标位置，异常者按考勤制度处理即可。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评估您的员工和业务特点，选择适合的轨迹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注意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只要你想定位员工，就没有哪个人会乖乖就范（无论员工如何想，起码你应该充分认识到这点，这类似于给小马驹套上笼头、系上缰绳、开始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“驯马”的过程，一上来就乖的有，但是太少了），有人会想各种办法对付你，如果你的执行力不足，就要慎重考虑定位员工的事情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7776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6E33-64D2-46E2-BDA9-FE0C9E8925C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5456160" y="6500880"/>
            <a:ext cx="1946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8115-7582-4035-BC56-85E8A756814A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定位异常及其处理办法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3" name="矩形 1"/>
          <p:cNvSpPr/>
          <p:nvPr/>
        </p:nvSpPr>
        <p:spPr>
          <a:xfrm>
            <a:off x="304920" y="198108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员工关闭手机的定位权限、关闭网络、不按时打卡、没有保护本软件后台运行等情况下，都会导致轨迹“中断”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无论员工干扰手机定位的方法有多少，企业只有一个有效的应对办法，那就是从制度上规定“凡是一天中失联达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小时以上者，当日按旷工处理”，其他办法都效果不明显，只有这一条能从根本上解决问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6:45:36Z</dcterms:created>
  <dc:creator>ttcrm</dc:creator>
  <dc:description/>
  <dc:language>en-US</dc:language>
  <cp:lastModifiedBy>lenovo</cp:lastModifiedBy>
  <dcterms:modified xsi:type="dcterms:W3CDTF">2020-12-09T02:59:49Z</dcterms:modified>
  <cp:revision>3336</cp:revision>
  <dc:subject/>
  <dc:title>ttcrm</dc:title>
</cp:coreProperties>
</file>